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4C660-3993-4A89-89E8-9A3F433DB0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or more advanced reading materials, please see http://www.geo.utexas.edu/courses/387h/ScheduleGPC_detail.htm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earth’s global average surface temperature in present climate is 15C (59F).  Without the atmosphere, it would be -18C (-0.4F),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bout 33C or 59.4F colder!  Atmosphere is the most important component of the earth’s climate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adiation vs. other heat source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otal energy enter the earth’s atmosphere: 174 petawatts or 174X1015 Wat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olar: 99.978%, Geothermal: 0.013%, waste and fossil fuel: 0.007%, tidal: 0.002%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more advanced reading materials, please see http://www.geo.utexas.edu/courses/387h/ScheduleGPC_detail.ht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arth’s global average surface temperature in present climate is 15C (59F).  Without the atmosphere, it would be -18C (-0.4F)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33C or 59.4F colder!  Atmosphere is the most important component of the earth’s climat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ation vs. other heat sourc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tal energy enter the earth’s atmosphere: 174 petawatts or 174X1015 Wat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: 99.978%, Geothermal: 0.013%, waste and fossil fuel: 0.007%, tidal: 0.002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ater vapor accounts for 60% of the atmospheric greenhouse effect, CO2 26%, and the remaining greenhouse gases 14%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reenhouse Gas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ater vapor (H2O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rbon dioxide (CO2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ethane (CH4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itrous oxide (N2O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zone (O3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hlorofluorocarbons (CFC’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at are they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2 contributes most (55-60%) to the anthropogenic greenhouse effect, and methane is a distant second (16%)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FCs cause the strongest greenhouse warming on a molecule-for-molecule basis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vapor accounts for 60% of the atmospheric greenhouse effect, CO2 26%, and the remaining greenhouse gases 14%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nhouse G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vapor (H2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n dioxide (CO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hane (CH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itrous oxide (N2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zone (O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lorofluorocarbons (CFC’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the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2 contributes most (55-60%) to the anthropogenic greenhouse effect, and methane is a distant second (16%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FCs cause the strongest greenhouse warming on a molecule-for-molecule basi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tmospheric Absorp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olar radiation passes rather freely through Earth's atmospher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arth emits longwave energy, which either leaks through a narrow window or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s absorbed by greenhouse gases and radiated back to Earth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avelengt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bsorption (100%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itrous Ox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etha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zo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ater Vap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rbon Diox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otal Atm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UV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mospheric Absorp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radiation passes rather freely through Earth's atmosp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th emits longwave energy, which either leaks through a narrow window o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absorbed by greenhouse gases and radiated back to Eart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veleng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sorption (100%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itrous Ox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h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z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Vap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n Diox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tal Atm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olar Intensity and Latitu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olar intensity, defined as the energy per area, is different at different latitud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 sunlight beam that strikes at an angle is spread across a greater surface area, and is a less intense heat source than a beam impinging directl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Intensity and Latitu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intensity, defined as the energy per area, is different at different latitu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unlight beam that strikes at an angle is spread across a greater surface area, and is a less intense heat source than a beam impinging direct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Unequal Radiation on a Sphe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solation is stronger in the tropics (low latitudes) than in in the polar regions (high latitudes)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equal Radiation on a 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solation is stronger in the tropics (low latitudes) than in in the polar regions (high latitudes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ole-to-Equator Heating Imbalanc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e-to-Equator Heating Imbala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at controls the elevation of the Sun above the horizon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arth’s Tilt Primarily Determines Seas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controls the elevation of the Sun above the horiz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th’s Tilt Primarily Determines Seas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arth's Annual Energy Balan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balance is achieved locally at only two lines of latitud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 global balance is maintained by excess heat from the equatorial region transferring toward the pole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coming Solar Radi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utgoing Longwave Radi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Unequal heating of tropics and po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th's Annual Energy Bal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alance is achieved locally at only two lines of latitu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global balance is maintained by excess heat from the equatorial region transferring toward the po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oming Solar Rad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going Longwave Rad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equal heating of tropics and po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Global Energy Budget:  Driver of Atmospheric Mo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owever, the tilt of th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arth means this balan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s not maintained for eac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atitu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 balance exists between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incoming solar an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utgoing longwave energy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veraged over the glob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nd the yea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EFICI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URPLU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lobal Energy Budget:  Driver of Atmospheric Mo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ever, the tilt of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th means this bal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not maintained for ea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titu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balance exists betwee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ncoming sola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going longwave energ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eraged over the glob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the y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PL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current global mean surface temperature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it is 33C or 59F warmer than it would be without the atmosp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is climate dominated by the radiation balance of the atmosp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the main greenhouse gases in the earth’s atmosp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what latitudes the earth’s gain and lost radiative energy (heat), respectively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Місце для номера слайда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Question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at is the current global mean surface temperature?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y it is 33C or 59F warmer than it would be without the atmosphere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y is climate dominated by the radiation balance of the atmosphere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at are the main greenhouse gases in the earth’s atmosphere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 what latitudes the earth’s gain and lost radiative energy (heat), respectively?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current global mean surface temperature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C or 59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it is 33C or 59F warmer than it would be without the atmosp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ause of greenhouse effect of the at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is climate dominated by the radiation balance of the atmosp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contributes to 99.978% of total heat flux into the at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the main greenhouse gases in the earth’s atmosp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2O, CO2, CH4, O3, CFCs, N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what latitudes the earth’s gain and lost radiative energy (heat), respectively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in heat in the tropics or 40S-40N, loss heat in high latitudes (50S-50N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Місце для номера слайда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Question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at is the current global mean surface temperature?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5C or 59F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y it is 33C or 59F warmer than it would be without the atmosphere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ecause of greenhouse effect of the atmosphe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y is climate dominated by the radiation balance of the atmosphere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t contributes to 99.978% of total heat flux into the atmosphe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at are the main greenhouse gases in the earth’s atmosphere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2O, CO2, CH4, O3, CFCs, NO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 what latitudes the earth’s gain and lost radiative energy (heat), respectively?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ain heat in the tropics or 40S-40N, loss heat in high latitudes (50S-50N)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arth’s Atmosphe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. What is it?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 thin gaseous envelope around the planet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. Composition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oday’s atmosphere: nitrogen  (78%), oxygen (21%), other (1%) – trace gases!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itrogen, oxygen, argon, water vapor, carbon dioxide, methane, and most other gases are invisibl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louds are not gas, but condensed vapor in the form of  liquid droplets or ice particle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round based smog, which is visible, contains reactants of                       nitrogen and ozon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3. Structu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our layers: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roposphe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(overturning)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ratosphe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(stratified)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rom surface to 8-18 k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rom troposphere top  to 50 k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esosphe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rmosphe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lue sky!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th’s At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What is it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thin gaseous envelope around the plane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Composi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day’s atmosphere: nitrogen  (78%), oxygen (21%), other (1%) – trace gase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itrogen, oxygen, argon, water vapor, carbon dioxide, methane, and most other gases are invisi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ouds are not gas, but condensed vapor in the form of  liquid droplets or ice partic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ound based smog, which is visible, contains reactants of                       nitrogen and ozo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 layer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op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overturning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at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tratified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surface to 8-18 k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troposphere top  to 50 k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ue sky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ested in more questions?  Try these question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you name one or more main causes of glacier and interglacier climate chang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most important greenhouse gases for modern climate change?  What is the fastest growing greenhouse ga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th’s climate has been much colder and warmer than that of today.  Do you know in what ways the earth’s radiation balance was alter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Місце для номера слайда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terested in more questions?  Try these question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n you name one or more main causes of glacier and interglacier climate change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at is the most important greenhouse gases for modern climate change?  What is the fastest growing greenhouse gas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arth’s climate has been much colder and warmer than that of today.  Do you know in what ways the earth’s radiation balance was altered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Structure of Earth’s Atmosphe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. Four layers defined b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emperatu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. Importance to climate and climate chang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roposphere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roposphere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ratosphere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esosphere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rmosphere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 decreases with elev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 increases with elev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 decreases with elev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 increases with elev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80% of Earth’s gases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ost of Earth’s weather happe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ost of the measur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ratosphere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9.9% of Earth’s gases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zone layer: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locking Sun’s ultraviolet radi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ructure of Earth’s At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Four layers defined b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era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Importance to climate and climate chang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oposphe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oposphe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atosphe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osphe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mosphe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decreases with elev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increases with elev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decreases with elev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increases with elev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0% of Earth’s gas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of Earth’s weather happ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of the measur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atosphe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.9% of Earth’s gas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zone layer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ocking Sun’s ultraviolet rad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nergy from the Su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. Characteristics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ravels through space (vacuum)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 a speed of ligh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3. Importance to climate and climate chang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 the form of wave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 stream of partic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lectromagnetic wav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(Photon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rimary driving force of Earth’s climate eng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. Electromagnetic spectrum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rom short wavelength, high energy, gamma rays to long wavelength, low energy, radio waves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leases heat when absorb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Ultraviolet, Visible, Infrar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from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Characteristic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vels through space (vacuum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 speed of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Importance to climate and climate chang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form of wav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stream of partic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magnetic w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Photon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imary driving force of Earth’s climate eng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Electromagnetic spectru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short wavelength, high energy, gamma rays to long wavelength, low energy, radio wav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eases heat when absorb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ltraviolet, Visible, Infra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un’s Electromagnetic Spectru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olar radiation has peak intensities in the shorter wavelengths, dominant in the region we know as visible, thus shortwave radi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’s Electromagnetic Spectr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radiation has peak intensities in the shorter wavelengths, dominant in the region we know as visible, thus shortwave rad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lackbody Radiation Curv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ny object above absolute zero radiates heat, as proportional to T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igher temperature, shorter wavelengt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ackbody Radiation Cur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y object above absolute zero radiates heat, as proportional to T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er temperature, shorter waveleng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ongwave &amp; Shortwave Radi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hot sun radiates at shorter wavelengths that carry more energy, and the fraction absorbed by the cooler earth is then re-radiated at longer wavelength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wave &amp; Shortwave Rad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ot sun radiates at shorter wavelengths that carry more energy, and the fraction absorbed by the cooler earth is then re-radiated at longer wavelength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tmospheric Greenhouse Effec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= 15°C (59°F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= –18°C (0°F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reenhouse effects make Earth’s surface warmer!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urface Temperature With the Atmosphe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urface Temperature Without the Atmospher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mospheric Greenhouse Eff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= 15°C (59°F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= –18°C (0°F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nhouse effects make Earth’s surface warmer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face Temperature With the At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face Temperature Without the Atmosphe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A340C-75DF-4D4F-AFC6-A3A4D3B14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3CD41-A342-4948-8EA7-9C47EC741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30834-5711-4966-8D86-F3FD5BFA8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C7276-FCC9-4BDE-B197-253BA74FC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0CFE5-6420-48D4-89F2-375FF985A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BFC94-F187-4F8B-80E5-AD0CF0D5D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A2BC2-189A-4D5E-B3BA-7BE2A8AFC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2B530-8899-4FF4-84EA-69DC487C8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4666F-5F3B-4ACD-B5CD-80C26AF95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59D5C-E0E7-41FB-BD50-D6E0CA6B8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3C35B-5F1C-495A-AC50-94928C9B0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71A97-A836-4910-9187-CCDBD9AAD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50973-AACA-4123-878D-4003FEAF630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eo.utexas.edu/courses/302c/EarthsClimate_Web_Chapter.pdf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7"/>
          <p:cNvGrpSpPr/>
          <p:nvPr/>
        </p:nvGrpSpPr>
        <p:grpSpPr>
          <a:xfrm>
            <a:off x="0" y="533520"/>
            <a:ext cx="9080640" cy="1069200"/>
            <a:chOff x="0" y="533520"/>
            <a:chExt cx="9080640" cy="1069200"/>
          </a:xfrm>
        </p:grpSpPr>
        <p:sp>
          <p:nvSpPr>
            <p:cNvPr id="49" name="Text Box 2"/>
            <p:cNvSpPr/>
            <p:nvPr/>
          </p:nvSpPr>
          <p:spPr>
            <a:xfrm>
              <a:off x="0" y="533520"/>
              <a:ext cx="90806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Lecture 3: 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Radiation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 and Earth’s Atmosphere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Text Box 5"/>
            <p:cNvSpPr/>
            <p:nvPr/>
          </p:nvSpPr>
          <p:spPr>
            <a:xfrm>
              <a:off x="2133360" y="1143000"/>
              <a:ext cx="495324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ff0000"/>
                  </a:solidFill>
                  <a:uFillTx/>
                  <a:latin typeface="Times New Roman"/>
                  <a:hlinkClick r:id="rId1"/>
                </a:rPr>
                <a:t>EarthsClimate_Web_Chapter.pdf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, p. 1-5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" name="Text Box 6"/>
          <p:cNvSpPr/>
          <p:nvPr/>
        </p:nvSpPr>
        <p:spPr>
          <a:xfrm>
            <a:off x="152280" y="5943600"/>
            <a:ext cx="8534520" cy="399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838080" y="190476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earth’s global average surface temperature in present climate is 15C (59F).  Without the atmosphere, it would be -18C (-0.4F)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out 33C or 59.4F colder!  Atmosphere is the most important component of the earth’s climate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diation vs. other heat sourc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tal energy enter the earth’s atmosphere: 174 petawatts or 174X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15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at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lar: 99.978%, Geothermal: 0.013%, waste and fossil fuel: 0.007%, tidal: 0.002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152280" y="304812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62120" indent="-762120">
              <a:spcBef>
                <a:spcPts val="425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ff"/>
                </a:solidFill>
                <a:latin typeface="Arial"/>
              </a:rPr>
              <a:t>Water vapor accounts for 60% of the atmospheric greenhouse effect, CO</a:t>
            </a:r>
            <a:r>
              <a:rPr b="0" lang="en-US" sz="17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1700" spc="-1" strike="noStrike">
                <a:solidFill>
                  <a:srgbClr val="0000ff"/>
                </a:solidFill>
                <a:latin typeface="Arial"/>
              </a:rPr>
              <a:t> 26%, and the remaining greenhouse gases 14%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2057400" y="152280"/>
            <a:ext cx="52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Greenhouse Gas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3429000" y="1143000"/>
            <a:ext cx="2362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Water vapor (H</a:t>
            </a:r>
            <a:r>
              <a:rPr b="0" lang="en-US" sz="1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O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Text Box 5"/>
          <p:cNvSpPr/>
          <p:nvPr/>
        </p:nvSpPr>
        <p:spPr>
          <a:xfrm>
            <a:off x="1981080" y="1690560"/>
            <a:ext cx="2971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Carbon dioxide (CO</a:t>
            </a:r>
            <a:r>
              <a:rPr b="0" lang="en-US" sz="1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Text Box 6"/>
          <p:cNvSpPr/>
          <p:nvPr/>
        </p:nvSpPr>
        <p:spPr>
          <a:xfrm>
            <a:off x="4572000" y="1690560"/>
            <a:ext cx="2971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Methane (CH</a:t>
            </a:r>
            <a:r>
              <a:rPr b="0" lang="en-US" sz="1800" spc="-1" strike="noStrike" baseline="-25000">
                <a:solidFill>
                  <a:srgbClr val="0000ff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Text Box 7"/>
          <p:cNvSpPr/>
          <p:nvPr/>
        </p:nvSpPr>
        <p:spPr>
          <a:xfrm>
            <a:off x="5943600" y="2224080"/>
            <a:ext cx="2666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Nitrous oxide (N</a:t>
            </a:r>
            <a:r>
              <a:rPr b="0" lang="en-US" sz="1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O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Text Box 8"/>
          <p:cNvSpPr/>
          <p:nvPr/>
        </p:nvSpPr>
        <p:spPr>
          <a:xfrm>
            <a:off x="990720" y="2209680"/>
            <a:ext cx="1904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Ozone (O</a:t>
            </a:r>
            <a:r>
              <a:rPr b="0" lang="en-US" sz="1800" spc="-1" strike="noStrike" baseline="-25000">
                <a:solidFill>
                  <a:srgbClr val="0000ff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Text Box 9"/>
          <p:cNvSpPr/>
          <p:nvPr/>
        </p:nvSpPr>
        <p:spPr>
          <a:xfrm>
            <a:off x="3048120" y="213372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Chlorofluorocarbons (CFC’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Rectangle 10"/>
          <p:cNvSpPr/>
          <p:nvPr/>
        </p:nvSpPr>
        <p:spPr>
          <a:xfrm>
            <a:off x="304920" y="838080"/>
            <a:ext cx="4724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62120" indent="-762120">
              <a:lnSpc>
                <a:spcPct val="100000"/>
              </a:lnSpc>
              <a:spcBef>
                <a:spcPts val="425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0000"/>
                </a:solidFill>
                <a:latin typeface="Arial"/>
              </a:rPr>
              <a:t>What are they?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Rectangle 11"/>
          <p:cNvSpPr/>
          <p:nvPr/>
        </p:nvSpPr>
        <p:spPr>
          <a:xfrm>
            <a:off x="152280" y="4267080"/>
            <a:ext cx="8686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62120" indent="-76212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17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contributes most (55-60%) to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thropogenic greenhouse effect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, and methane is a distant second (16%).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Rectangle 12"/>
          <p:cNvSpPr/>
          <p:nvPr/>
        </p:nvSpPr>
        <p:spPr>
          <a:xfrm>
            <a:off x="152280" y="5334120"/>
            <a:ext cx="8686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62120" indent="-76212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FCs cause the strongest greenhouse warming on a molecule-for-molecule basis. 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Rectangle 13"/>
          <p:cNvSpPr/>
          <p:nvPr/>
        </p:nvSpPr>
        <p:spPr>
          <a:xfrm>
            <a:off x="1295280" y="1523880"/>
            <a:ext cx="7086600" cy="1295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2"/>
          <p:cNvSpPr/>
          <p:nvPr/>
        </p:nvSpPr>
        <p:spPr>
          <a:xfrm>
            <a:off x="228600" y="228600"/>
            <a:ext cx="40384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02080"/>
                </a:solidFill>
                <a:latin typeface="Times New Roman"/>
              </a:rPr>
              <a:t>Atmospheric Absorp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Text Box 3"/>
          <p:cNvSpPr/>
          <p:nvPr/>
        </p:nvSpPr>
        <p:spPr>
          <a:xfrm>
            <a:off x="228600" y="1447920"/>
            <a:ext cx="34290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Solar radiation </a:t>
            </a:r>
            <a:r>
              <a:rPr b="1" lang="en-US" sz="2400" spc="-1" strike="noStrike">
                <a:solidFill>
                  <a:srgbClr val="ff9900"/>
                </a:solidFill>
                <a:latin typeface="Times New Roman"/>
              </a:rPr>
              <a:t>passes rather freely</a:t>
            </a: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 through Earth's atmospher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Earth emits longwave energy, which either leaks through a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narrow window</a:t>
            </a: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 or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is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bsorbed</a:t>
            </a: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 by greenhouse gases and radiated back to Earth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3" name="Picture 4" descr="G:\clones\Meterology\custom lectures\jpegs\chapter 02\11.jpg"/>
          <p:cNvPicPr/>
          <p:nvPr/>
        </p:nvPicPr>
        <p:blipFill>
          <a:blip r:embed="rId1"/>
          <a:stretch/>
        </p:blipFill>
        <p:spPr>
          <a:xfrm>
            <a:off x="4267080" y="76320"/>
            <a:ext cx="4267440" cy="663732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5"/>
          <p:cNvSpPr/>
          <p:nvPr/>
        </p:nvSpPr>
        <p:spPr>
          <a:xfrm>
            <a:off x="6095880" y="6384960"/>
            <a:ext cx="18288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Wavelengt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Text Box 6"/>
          <p:cNvSpPr/>
          <p:nvPr/>
        </p:nvSpPr>
        <p:spPr>
          <a:xfrm rot="16200000">
            <a:off x="3111480" y="2940840"/>
            <a:ext cx="22525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Absorption (100%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Text Box 7"/>
          <p:cNvSpPr/>
          <p:nvPr/>
        </p:nvSpPr>
        <p:spPr>
          <a:xfrm>
            <a:off x="7086600" y="152280"/>
            <a:ext cx="15238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Nitrous Oxid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Text Box 8"/>
          <p:cNvSpPr/>
          <p:nvPr/>
        </p:nvSpPr>
        <p:spPr>
          <a:xfrm>
            <a:off x="7162920" y="1233360"/>
            <a:ext cx="15238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Metha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Text Box 9"/>
          <p:cNvSpPr/>
          <p:nvPr/>
        </p:nvSpPr>
        <p:spPr>
          <a:xfrm>
            <a:off x="7391520" y="2300400"/>
            <a:ext cx="11430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Ozo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Text Box 10"/>
          <p:cNvSpPr/>
          <p:nvPr/>
        </p:nvSpPr>
        <p:spPr>
          <a:xfrm>
            <a:off x="7086600" y="3214800"/>
            <a:ext cx="15238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Water Vapo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Text Box 11"/>
          <p:cNvSpPr/>
          <p:nvPr/>
        </p:nvSpPr>
        <p:spPr>
          <a:xfrm>
            <a:off x="4800600" y="419112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Carbon Dioxid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Line 12"/>
          <p:cNvSpPr/>
          <p:nvPr/>
        </p:nvSpPr>
        <p:spPr>
          <a:xfrm>
            <a:off x="5867280" y="5410080"/>
            <a:ext cx="2590920" cy="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Line 13"/>
          <p:cNvSpPr/>
          <p:nvPr/>
        </p:nvSpPr>
        <p:spPr>
          <a:xfrm>
            <a:off x="5562720" y="5410080"/>
            <a:ext cx="304560" cy="0"/>
          </a:xfrm>
          <a:prstGeom prst="line">
            <a:avLst/>
          </a:prstGeom>
          <a:ln w="28440">
            <a:solidFill>
              <a:srgbClr val="0066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Line 14"/>
          <p:cNvSpPr/>
          <p:nvPr/>
        </p:nvSpPr>
        <p:spPr>
          <a:xfrm>
            <a:off x="4876920" y="5410080"/>
            <a:ext cx="685800" cy="0"/>
          </a:xfrm>
          <a:prstGeom prst="line">
            <a:avLst/>
          </a:prstGeom>
          <a:ln w="28440">
            <a:solidFill>
              <a:srgbClr val="cc66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Text Box 15"/>
          <p:cNvSpPr/>
          <p:nvPr/>
        </p:nvSpPr>
        <p:spPr>
          <a:xfrm>
            <a:off x="5105520" y="58672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Total Atm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Text Box 16"/>
          <p:cNvSpPr/>
          <p:nvPr/>
        </p:nvSpPr>
        <p:spPr>
          <a:xfrm>
            <a:off x="7086600" y="5334120"/>
            <a:ext cx="457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I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Text Box 17"/>
          <p:cNvSpPr/>
          <p:nvPr/>
        </p:nvSpPr>
        <p:spPr>
          <a:xfrm>
            <a:off x="5029200" y="5059440"/>
            <a:ext cx="4572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UV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Line 18"/>
          <p:cNvSpPr/>
          <p:nvPr/>
        </p:nvSpPr>
        <p:spPr>
          <a:xfrm>
            <a:off x="3200400" y="2133720"/>
            <a:ext cx="2362320" cy="411480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Line 19"/>
          <p:cNvSpPr/>
          <p:nvPr/>
        </p:nvSpPr>
        <p:spPr>
          <a:xfrm>
            <a:off x="3048120" y="3809880"/>
            <a:ext cx="4419360" cy="20574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Line 20"/>
          <p:cNvSpPr/>
          <p:nvPr/>
        </p:nvSpPr>
        <p:spPr>
          <a:xfrm>
            <a:off x="2438280" y="5029200"/>
            <a:ext cx="5562720" cy="6858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Line 21"/>
          <p:cNvSpPr/>
          <p:nvPr/>
        </p:nvSpPr>
        <p:spPr>
          <a:xfrm>
            <a:off x="2743200" y="5105520"/>
            <a:ext cx="3962520" cy="7617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2"/>
          <p:cNvSpPr/>
          <p:nvPr/>
        </p:nvSpPr>
        <p:spPr>
          <a:xfrm>
            <a:off x="0" y="-127080"/>
            <a:ext cx="9080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02080"/>
                </a:solidFill>
                <a:latin typeface="Times New Roman"/>
              </a:rPr>
              <a:t>Solar Intensity and Latitu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3" name="Picture 3" descr="G:\clones\Meterology\custom lectures\jpegs\chapter 03\02.jpg"/>
          <p:cNvPicPr/>
          <p:nvPr/>
        </p:nvPicPr>
        <p:blipFill>
          <a:blip r:embed="rId1"/>
          <a:stretch/>
        </p:blipFill>
        <p:spPr>
          <a:xfrm>
            <a:off x="415800" y="325440"/>
            <a:ext cx="8248680" cy="394956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4"/>
          <p:cNvSpPr/>
          <p:nvPr/>
        </p:nvSpPr>
        <p:spPr>
          <a:xfrm>
            <a:off x="11160" y="4448160"/>
            <a:ext cx="9059760" cy="21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Solar intensity, defined as the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energy per area</a:t>
            </a: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, is different at different latitud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A sunlight beam that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strikes at an angle</a:t>
            </a: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 is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spread</a:t>
            </a: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 across a greater surface area, and is a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less intense</a:t>
            </a: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 heat source than a beam impinging directly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2"/>
          <p:cNvSpPr/>
          <p:nvPr/>
        </p:nvSpPr>
        <p:spPr>
          <a:xfrm>
            <a:off x="0" y="182520"/>
            <a:ext cx="9080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02080"/>
                </a:solidFill>
                <a:latin typeface="Times New Roman"/>
              </a:rPr>
              <a:t>Unequal Radiation on a Sphe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7" name="Picture 3" descr="figure 02-04"/>
          <p:cNvPicPr/>
          <p:nvPr/>
        </p:nvPicPr>
        <p:blipFill>
          <a:blip r:embed="rId1"/>
          <a:stretch/>
        </p:blipFill>
        <p:spPr>
          <a:xfrm>
            <a:off x="380880" y="762120"/>
            <a:ext cx="5346720" cy="609588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4"/>
          <p:cNvSpPr/>
          <p:nvPr/>
        </p:nvSpPr>
        <p:spPr>
          <a:xfrm>
            <a:off x="6248520" y="1752480"/>
            <a:ext cx="2438280" cy="265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Insolation is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tronger</a:t>
            </a: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 in the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ropics</a:t>
            </a: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 (low latitudes) than in in the polar regions (high latitudes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8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2"/>
          <p:cNvSpPr/>
          <p:nvPr/>
        </p:nvSpPr>
        <p:spPr>
          <a:xfrm>
            <a:off x="0" y="182520"/>
            <a:ext cx="9080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02080"/>
                </a:solidFill>
                <a:latin typeface="Times New Roman"/>
              </a:rPr>
              <a:t>Pole-to-Equator Heating Imbalan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1" name="Picture 3" descr="figure 02-05"/>
          <p:cNvPicPr/>
          <p:nvPr/>
        </p:nvPicPr>
        <p:blipFill>
          <a:blip r:embed="rId1"/>
          <a:stretch/>
        </p:blipFill>
        <p:spPr>
          <a:xfrm>
            <a:off x="1676520" y="1066680"/>
            <a:ext cx="5608440" cy="5029200"/>
          </a:xfrm>
          <a:prstGeom prst="rect">
            <a:avLst/>
          </a:prstGeom>
          <a:ln w="0">
            <a:noFill/>
          </a:ln>
        </p:spPr>
      </p:pic>
      <p:sp>
        <p:nvSpPr>
          <p:cNvPr id="1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figure 02-07a"/>
          <p:cNvPicPr/>
          <p:nvPr/>
        </p:nvPicPr>
        <p:blipFill>
          <a:blip r:embed="rId1"/>
          <a:stretch/>
        </p:blipFill>
        <p:spPr>
          <a:xfrm>
            <a:off x="228600" y="838080"/>
            <a:ext cx="8534520" cy="545652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3"/>
          <p:cNvSpPr/>
          <p:nvPr/>
        </p:nvSpPr>
        <p:spPr>
          <a:xfrm>
            <a:off x="63360" y="228600"/>
            <a:ext cx="9080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02080"/>
                </a:solidFill>
                <a:latin typeface="Times New Roman"/>
              </a:rPr>
              <a:t>What controls the elevation of the Sun above the horizon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Text Box 4"/>
          <p:cNvSpPr/>
          <p:nvPr/>
        </p:nvSpPr>
        <p:spPr>
          <a:xfrm>
            <a:off x="0" y="6172200"/>
            <a:ext cx="9080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02080"/>
                </a:solidFill>
                <a:latin typeface="Times New Roman"/>
              </a:rPr>
              <a:t>Earth’s Tilt Primarily Determines Seas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ext Box 2"/>
          <p:cNvSpPr/>
          <p:nvPr/>
        </p:nvSpPr>
        <p:spPr>
          <a:xfrm>
            <a:off x="0" y="-127080"/>
            <a:ext cx="9080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02080"/>
                </a:solidFill>
                <a:latin typeface="Times New Roman"/>
              </a:rPr>
              <a:t>Earth's Annual Energy Bala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Text Box 3"/>
          <p:cNvSpPr/>
          <p:nvPr/>
        </p:nvSpPr>
        <p:spPr>
          <a:xfrm>
            <a:off x="152280" y="533520"/>
            <a:ext cx="2349720" cy="58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The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balance</a:t>
            </a: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 is achieved locally at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only two lines</a:t>
            </a: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 of latitud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A </a:t>
            </a:r>
            <a:r>
              <a:rPr b="1" lang="en-US" sz="2400" spc="-1" strike="noStrike">
                <a:solidFill>
                  <a:srgbClr val="cc6600"/>
                </a:solidFill>
                <a:latin typeface="Times New Roman"/>
              </a:rPr>
              <a:t>global balance</a:t>
            </a: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 is maintained by excess </a:t>
            </a:r>
            <a:r>
              <a:rPr b="1" lang="en-US" sz="2400" spc="-1" strike="noStrike">
                <a:solidFill>
                  <a:srgbClr val="cc6600"/>
                </a:solidFill>
                <a:latin typeface="Times New Roman"/>
              </a:rPr>
              <a:t>heat</a:t>
            </a: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 from the equatorial region </a:t>
            </a:r>
            <a:r>
              <a:rPr b="1" lang="en-US" sz="2400" spc="-1" strike="noStrike">
                <a:solidFill>
                  <a:srgbClr val="cc6600"/>
                </a:solidFill>
                <a:latin typeface="Times New Roman"/>
              </a:rPr>
              <a:t>transferring</a:t>
            </a: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 toward the pol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9" name="Picture 4" descr="G:\clones\Meterology\custom lectures\jpegs\chapter 03\08.jpg"/>
          <p:cNvPicPr/>
          <p:nvPr/>
        </p:nvPicPr>
        <p:blipFill>
          <a:blip r:embed="rId1"/>
          <a:stretch/>
        </p:blipFill>
        <p:spPr>
          <a:xfrm>
            <a:off x="2654280" y="912960"/>
            <a:ext cx="6464160" cy="479556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5257800" y="121932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ncoming Solar Radi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Text Box 6"/>
          <p:cNvSpPr/>
          <p:nvPr/>
        </p:nvSpPr>
        <p:spPr>
          <a:xfrm>
            <a:off x="4724280" y="2635200"/>
            <a:ext cx="281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cc"/>
                </a:solidFill>
                <a:latin typeface="Arial"/>
              </a:rPr>
              <a:t>Outgoing Longwave Radi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Text Box 7"/>
          <p:cNvSpPr/>
          <p:nvPr/>
        </p:nvSpPr>
        <p:spPr>
          <a:xfrm>
            <a:off x="2895480" y="6095880"/>
            <a:ext cx="610884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02080"/>
                </a:solidFill>
                <a:latin typeface="Times New Roman"/>
              </a:rPr>
              <a:t>Unequal heating of tropics and po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ext Box 2"/>
          <p:cNvSpPr/>
          <p:nvPr/>
        </p:nvSpPr>
        <p:spPr>
          <a:xfrm>
            <a:off x="290520" y="0"/>
            <a:ext cx="84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ahoma"/>
              </a:rPr>
              <a:t>The Global Energy Budget:  Driver of Atmospheric Mo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5" name="Picture 3" descr="earthrad"/>
          <p:cNvPicPr/>
          <p:nvPr/>
        </p:nvPicPr>
        <p:blipFill>
          <a:blip r:embed="rId1"/>
          <a:stretch/>
        </p:blipFill>
        <p:spPr>
          <a:xfrm>
            <a:off x="228600" y="603360"/>
            <a:ext cx="8305920" cy="564516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4"/>
          <p:cNvSpPr/>
          <p:nvPr/>
        </p:nvSpPr>
        <p:spPr>
          <a:xfrm>
            <a:off x="6292080" y="5254560"/>
            <a:ext cx="28461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99"/>
                </a:solidFill>
                <a:latin typeface="Tahoma"/>
              </a:rPr>
              <a:t>However, the tilt of th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Tahoma"/>
              </a:rPr>
              <a:t>Earth means this balanc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Tahoma"/>
              </a:rPr>
              <a:t>is not maintained for each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Tahoma"/>
              </a:rPr>
              <a:t>latitud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Text Box 5"/>
          <p:cNvSpPr/>
          <p:nvPr/>
        </p:nvSpPr>
        <p:spPr>
          <a:xfrm>
            <a:off x="6333840" y="533520"/>
            <a:ext cx="29512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Tahoma"/>
              </a:rPr>
              <a:t>A balance exists between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Tahoma"/>
              </a:rPr>
              <a:t>the incoming solar an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Tahoma"/>
              </a:rPr>
              <a:t>outgoing longwave energy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Tahoma"/>
              </a:rPr>
              <a:t>averaged over the globe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Tahoma"/>
              </a:rPr>
              <a:t>and the yea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Line 6"/>
          <p:cNvSpPr/>
          <p:nvPr/>
        </p:nvSpPr>
        <p:spPr>
          <a:xfrm>
            <a:off x="1324080" y="5257800"/>
            <a:ext cx="0" cy="10666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Text Box 7"/>
          <p:cNvSpPr/>
          <p:nvPr/>
        </p:nvSpPr>
        <p:spPr>
          <a:xfrm>
            <a:off x="1476360" y="5492880"/>
            <a:ext cx="116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ahoma"/>
              </a:rPr>
              <a:t>DEFICI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Text Box 8"/>
          <p:cNvSpPr/>
          <p:nvPr/>
        </p:nvSpPr>
        <p:spPr>
          <a:xfrm>
            <a:off x="-46080" y="5486400"/>
            <a:ext cx="131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SURPLU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Questions: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76212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is the current global mean surface temperature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y it is 33C or 59F warmer than it would be without the atmospher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y is climate dominated by the radiation balance of the atmospher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are the main greenhouse gases in the earth’s atmospher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what latitudes the earth’s gain and lost radiative energy (heat), respectively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Questions: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762120" y="14475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is the current global mean surface temperature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5C or 59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y it is 33C or 59F warmer than it would be without the atmospher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Because of greenhouse effect of the atmosp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y is climate dominated by the radiation balance of the atmospher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It contributes to 99.978% of total heat flux into the atmosp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are the main greenhouse gases in the earth’s atmospher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O, CO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, CH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, O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, CFCs, NO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what latitudes the earth’s gain and lost radiative energy (heat), respectively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Gain heat in the tropics or 40S-40N, loss heat in high latitudes (50S-50N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0" y="182520"/>
            <a:ext cx="9080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02080"/>
                </a:solidFill>
                <a:latin typeface="Times New Roman"/>
              </a:rPr>
              <a:t>Earth’s Atmosphe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Text Box 8"/>
          <p:cNvSpPr/>
          <p:nvPr/>
        </p:nvSpPr>
        <p:spPr>
          <a:xfrm>
            <a:off x="380880" y="914400"/>
            <a:ext cx="199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1. What is it?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6" name="Picture 9" descr="Picture1"/>
          <p:cNvPicPr/>
          <p:nvPr/>
        </p:nvPicPr>
        <p:blipFill>
          <a:blip r:embed="rId1"/>
          <a:stretch/>
        </p:blipFill>
        <p:spPr>
          <a:xfrm>
            <a:off x="6553080" y="762120"/>
            <a:ext cx="2057400" cy="2057400"/>
          </a:xfrm>
          <a:prstGeom prst="rect">
            <a:avLst/>
          </a:prstGeom>
          <a:ln w="0">
            <a:noFill/>
          </a:ln>
        </p:spPr>
      </p:pic>
      <p:sp>
        <p:nvSpPr>
          <p:cNvPr id="57" name="Text Box 10"/>
          <p:cNvSpPr/>
          <p:nvPr/>
        </p:nvSpPr>
        <p:spPr>
          <a:xfrm>
            <a:off x="685800" y="129528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 thin gaseous envelope around the planet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Text Box 11"/>
          <p:cNvSpPr/>
          <p:nvPr/>
        </p:nvSpPr>
        <p:spPr>
          <a:xfrm>
            <a:off x="380880" y="2023920"/>
            <a:ext cx="199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2. Composition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Text Box 12"/>
          <p:cNvSpPr/>
          <p:nvPr/>
        </p:nvSpPr>
        <p:spPr>
          <a:xfrm>
            <a:off x="228600" y="2390760"/>
            <a:ext cx="5952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Today’s atmosphere: nitrogen  (78%), oxygen (21%), other (1%) – trace gases!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Text Box 13"/>
          <p:cNvSpPr/>
          <p:nvPr/>
        </p:nvSpPr>
        <p:spPr>
          <a:xfrm>
            <a:off x="685800" y="3048120"/>
            <a:ext cx="7772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2060"/>
                </a:solidFill>
                <a:latin typeface="Tahoma"/>
              </a:rPr>
              <a:t>Nitrogen, oxygen, argon, water vapor, carbon dioxide, methane, and most other gases are invisible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Text Box 14"/>
          <p:cNvSpPr/>
          <p:nvPr/>
        </p:nvSpPr>
        <p:spPr>
          <a:xfrm>
            <a:off x="685800" y="3657600"/>
            <a:ext cx="6477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</a:rPr>
              <a:t>Clouds are not gas, but condensed vapor in the form of  liquid droplets or ice particle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Text Box 15"/>
          <p:cNvSpPr/>
          <p:nvPr/>
        </p:nvSpPr>
        <p:spPr>
          <a:xfrm>
            <a:off x="685800" y="4343400"/>
            <a:ext cx="6477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2060"/>
                </a:solidFill>
                <a:latin typeface="Tahoma"/>
              </a:rPr>
              <a:t>Ground based smog, which is visible, contains reactants of                       nitrogen and ozone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Text Box 16"/>
          <p:cNvSpPr/>
          <p:nvPr/>
        </p:nvSpPr>
        <p:spPr>
          <a:xfrm>
            <a:off x="380880" y="4890960"/>
            <a:ext cx="199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. Structu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Text Box 17"/>
          <p:cNvSpPr/>
          <p:nvPr/>
        </p:nvSpPr>
        <p:spPr>
          <a:xfrm>
            <a:off x="2590920" y="4876920"/>
            <a:ext cx="15238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2060"/>
                </a:solidFill>
                <a:latin typeface="Tahoma"/>
              </a:rPr>
              <a:t>Four layers: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Text Box 18"/>
          <p:cNvSpPr/>
          <p:nvPr/>
        </p:nvSpPr>
        <p:spPr>
          <a:xfrm>
            <a:off x="685800" y="5181480"/>
            <a:ext cx="25909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ahoma"/>
              </a:rPr>
              <a:t>Tropospher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Text Box 19"/>
          <p:cNvSpPr/>
          <p:nvPr/>
        </p:nvSpPr>
        <p:spPr>
          <a:xfrm>
            <a:off x="2133720" y="5181480"/>
            <a:ext cx="16761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206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202060"/>
                </a:solidFill>
                <a:latin typeface="Tahoma"/>
              </a:rPr>
              <a:t>(overturning)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Text Box 20"/>
          <p:cNvSpPr/>
          <p:nvPr/>
        </p:nvSpPr>
        <p:spPr>
          <a:xfrm>
            <a:off x="685800" y="5486400"/>
            <a:ext cx="2590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ahoma"/>
              </a:rPr>
              <a:t>Stratospher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Text Box 21"/>
          <p:cNvSpPr/>
          <p:nvPr/>
        </p:nvSpPr>
        <p:spPr>
          <a:xfrm>
            <a:off x="2133720" y="5486400"/>
            <a:ext cx="16761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206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202060"/>
                </a:solidFill>
                <a:latin typeface="Tahoma"/>
              </a:rPr>
              <a:t>(stratified)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Text Box 22"/>
          <p:cNvSpPr/>
          <p:nvPr/>
        </p:nvSpPr>
        <p:spPr>
          <a:xfrm>
            <a:off x="3657600" y="5181480"/>
            <a:ext cx="31240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206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202060"/>
                </a:solidFill>
                <a:latin typeface="Tahoma"/>
              </a:rPr>
              <a:t>From surface to 8-18 k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Text Box 23"/>
          <p:cNvSpPr/>
          <p:nvPr/>
        </p:nvSpPr>
        <p:spPr>
          <a:xfrm>
            <a:off x="3657600" y="5486400"/>
            <a:ext cx="3733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206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202060"/>
                </a:solidFill>
                <a:latin typeface="Tahoma"/>
              </a:rPr>
              <a:t>From troposphere top  to 50 k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Text Box 24"/>
          <p:cNvSpPr/>
          <p:nvPr/>
        </p:nvSpPr>
        <p:spPr>
          <a:xfrm>
            <a:off x="685800" y="5791320"/>
            <a:ext cx="2590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2060"/>
                </a:solidFill>
                <a:latin typeface="Tahoma"/>
              </a:rPr>
              <a:t>Mesospher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Text Box 25"/>
          <p:cNvSpPr/>
          <p:nvPr/>
        </p:nvSpPr>
        <p:spPr>
          <a:xfrm>
            <a:off x="685800" y="6172200"/>
            <a:ext cx="2590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2060"/>
                </a:solidFill>
                <a:latin typeface="Tahoma"/>
              </a:rPr>
              <a:t>Thermospher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Text Box 26"/>
          <p:cNvSpPr/>
          <p:nvPr/>
        </p:nvSpPr>
        <p:spPr>
          <a:xfrm>
            <a:off x="2971800" y="167652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Blue sky!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4" name="Picture 27" descr="box 02-01"/>
          <p:cNvPicPr/>
          <p:nvPr/>
        </p:nvPicPr>
        <p:blipFill>
          <a:blip r:embed="rId2"/>
          <a:stretch/>
        </p:blipFill>
        <p:spPr>
          <a:xfrm>
            <a:off x="7054920" y="3505320"/>
            <a:ext cx="2165400" cy="3276360"/>
          </a:xfrm>
          <a:prstGeom prst="rect">
            <a:avLst/>
          </a:prstGeom>
          <a:ln w="0">
            <a:noFill/>
          </a:ln>
        </p:spPr>
      </p:pic>
      <p:sp>
        <p:nvSpPr>
          <p:cNvPr id="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nterested in more questions?  Try these questions: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you name one or more main causes of glacier and interglacier climate chang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most important greenhouse gases for modern climate change?  What is the fastest growing greenhouse ga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rth’s climate has been much colder and warmer than that of today.  Do you know in what ways the earth’s radiation balance was altered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2"/>
          <p:cNvSpPr/>
          <p:nvPr/>
        </p:nvSpPr>
        <p:spPr>
          <a:xfrm>
            <a:off x="0" y="182520"/>
            <a:ext cx="9080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02080"/>
                </a:solidFill>
                <a:latin typeface="Times New Roman"/>
              </a:rPr>
              <a:t>The Structure of Earth’s Atmosphe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Text Box 3"/>
          <p:cNvSpPr/>
          <p:nvPr/>
        </p:nvSpPr>
        <p:spPr>
          <a:xfrm>
            <a:off x="380880" y="91440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1. Four layers defined b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Text Box 5"/>
          <p:cNvSpPr/>
          <p:nvPr/>
        </p:nvSpPr>
        <p:spPr>
          <a:xfrm>
            <a:off x="1447920" y="137160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temperatu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Text Box 6"/>
          <p:cNvSpPr/>
          <p:nvPr/>
        </p:nvSpPr>
        <p:spPr>
          <a:xfrm>
            <a:off x="371520" y="3200400"/>
            <a:ext cx="549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2. Importance to climate and climate chang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Text Box 7"/>
          <p:cNvSpPr/>
          <p:nvPr/>
        </p:nvSpPr>
        <p:spPr>
          <a:xfrm>
            <a:off x="228600" y="3657600"/>
            <a:ext cx="595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Troposphere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Text Box 10"/>
          <p:cNvSpPr/>
          <p:nvPr/>
        </p:nvSpPr>
        <p:spPr>
          <a:xfrm>
            <a:off x="685800" y="176688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opospher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Text Box 11"/>
          <p:cNvSpPr/>
          <p:nvPr/>
        </p:nvSpPr>
        <p:spPr>
          <a:xfrm>
            <a:off x="685800" y="207180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tratospher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Text Box 12"/>
          <p:cNvSpPr/>
          <p:nvPr/>
        </p:nvSpPr>
        <p:spPr>
          <a:xfrm>
            <a:off x="685800" y="237636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Mesospher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Text Box 13"/>
          <p:cNvSpPr/>
          <p:nvPr/>
        </p:nvSpPr>
        <p:spPr>
          <a:xfrm>
            <a:off x="685800" y="266688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hermospher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Text Box 14"/>
          <p:cNvSpPr/>
          <p:nvPr/>
        </p:nvSpPr>
        <p:spPr>
          <a:xfrm>
            <a:off x="2438280" y="176688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 </a:t>
            </a: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decreases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with elev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Text Box 15"/>
          <p:cNvSpPr/>
          <p:nvPr/>
        </p:nvSpPr>
        <p:spPr>
          <a:xfrm>
            <a:off x="2438280" y="205740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increases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with elev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Text Box 16"/>
          <p:cNvSpPr/>
          <p:nvPr/>
        </p:nvSpPr>
        <p:spPr>
          <a:xfrm>
            <a:off x="2514600" y="239076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 </a:t>
            </a: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decreases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with elev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Text Box 17"/>
          <p:cNvSpPr/>
          <p:nvPr/>
        </p:nvSpPr>
        <p:spPr>
          <a:xfrm>
            <a:off x="2514600" y="268128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increases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with elev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Text Box 18"/>
          <p:cNvSpPr/>
          <p:nvPr/>
        </p:nvSpPr>
        <p:spPr>
          <a:xfrm>
            <a:off x="990720" y="4038480"/>
            <a:ext cx="29718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2060"/>
                </a:solidFill>
                <a:latin typeface="Tahoma"/>
              </a:rPr>
              <a:t>80% of Earth’s gase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Text Box 19"/>
          <p:cNvSpPr/>
          <p:nvPr/>
        </p:nvSpPr>
        <p:spPr>
          <a:xfrm>
            <a:off x="990720" y="4343400"/>
            <a:ext cx="4038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2060"/>
                </a:solidFill>
                <a:latin typeface="Tahoma"/>
              </a:rPr>
              <a:t>Most of Earth’s weather happe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Text Box 20"/>
          <p:cNvSpPr/>
          <p:nvPr/>
        </p:nvSpPr>
        <p:spPr>
          <a:xfrm>
            <a:off x="990720" y="4648320"/>
            <a:ext cx="4038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2060"/>
                </a:solidFill>
                <a:latin typeface="Tahoma"/>
              </a:rPr>
              <a:t>Most of the measurement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Text Box 21"/>
          <p:cNvSpPr/>
          <p:nvPr/>
        </p:nvSpPr>
        <p:spPr>
          <a:xfrm>
            <a:off x="228600" y="4997520"/>
            <a:ext cx="595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Stratosphere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Text Box 22"/>
          <p:cNvSpPr/>
          <p:nvPr/>
        </p:nvSpPr>
        <p:spPr>
          <a:xfrm>
            <a:off x="990720" y="5334120"/>
            <a:ext cx="2971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2060"/>
                </a:solidFill>
                <a:latin typeface="Tahoma"/>
              </a:rPr>
              <a:t>19.9% of Earth’s gase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Text Box 23"/>
          <p:cNvSpPr/>
          <p:nvPr/>
        </p:nvSpPr>
        <p:spPr>
          <a:xfrm>
            <a:off x="990720" y="5638680"/>
            <a:ext cx="40384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2060"/>
                </a:solidFill>
                <a:latin typeface="Tahoma"/>
              </a:rPr>
              <a:t>Ozone layer: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Text Box 24"/>
          <p:cNvSpPr/>
          <p:nvPr/>
        </p:nvSpPr>
        <p:spPr>
          <a:xfrm>
            <a:off x="1371600" y="5943600"/>
            <a:ext cx="4038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2060"/>
                </a:solidFill>
                <a:latin typeface="Tahoma"/>
              </a:rPr>
              <a:t>Blocking Sun’s ultraviolet radia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6" name="Picture 26" descr="vertpro"/>
          <p:cNvPicPr/>
          <p:nvPr/>
        </p:nvPicPr>
        <p:blipFill>
          <a:blip r:embed="rId1"/>
          <a:stretch/>
        </p:blipFill>
        <p:spPr>
          <a:xfrm>
            <a:off x="6172200" y="838080"/>
            <a:ext cx="2787480" cy="2787840"/>
          </a:xfrm>
          <a:prstGeom prst="rect">
            <a:avLst/>
          </a:prstGeom>
          <a:ln w="0">
            <a:noFill/>
          </a:ln>
        </p:spPr>
      </p:pic>
      <p:sp>
        <p:nvSpPr>
          <p:cNvPr id="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2"/>
          <p:cNvSpPr/>
          <p:nvPr/>
        </p:nvSpPr>
        <p:spPr>
          <a:xfrm>
            <a:off x="0" y="182520"/>
            <a:ext cx="9080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02080"/>
                </a:solidFill>
                <a:latin typeface="Times New Roman"/>
              </a:rPr>
              <a:t>Energy from the Su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380880" y="9144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1. Characteristic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685800" y="1371600"/>
            <a:ext cx="426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avels through space (vacuum)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1" name="Picture 9" descr="figure 02-01"/>
          <p:cNvPicPr/>
          <p:nvPr/>
        </p:nvPicPr>
        <p:blipFill>
          <a:blip r:embed="rId1"/>
          <a:stretch/>
        </p:blipFill>
        <p:spPr>
          <a:xfrm>
            <a:off x="5013360" y="990720"/>
            <a:ext cx="4054320" cy="490356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10"/>
          <p:cNvSpPr/>
          <p:nvPr/>
        </p:nvSpPr>
        <p:spPr>
          <a:xfrm>
            <a:off x="1143000" y="167652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in a speed of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ligh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Text Box 11"/>
          <p:cNvSpPr/>
          <p:nvPr/>
        </p:nvSpPr>
        <p:spPr>
          <a:xfrm>
            <a:off x="380880" y="5167440"/>
            <a:ext cx="441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3. Importance to climate and climate chang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Text Box 13"/>
          <p:cNvSpPr/>
          <p:nvPr/>
        </p:nvSpPr>
        <p:spPr>
          <a:xfrm>
            <a:off x="685800" y="205740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In the form of wave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685800" y="275760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In stream of partic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Text Box 18"/>
          <p:cNvSpPr/>
          <p:nvPr/>
        </p:nvSpPr>
        <p:spPr>
          <a:xfrm>
            <a:off x="1143000" y="236232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Electromagnetic wav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Text Box 20"/>
          <p:cNvSpPr/>
          <p:nvPr/>
        </p:nvSpPr>
        <p:spPr>
          <a:xfrm>
            <a:off x="3429000" y="274320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Photon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Text Box 21"/>
          <p:cNvSpPr/>
          <p:nvPr/>
        </p:nvSpPr>
        <p:spPr>
          <a:xfrm>
            <a:off x="685800" y="5791320"/>
            <a:ext cx="5029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2060"/>
                </a:solidFill>
                <a:latin typeface="Tahoma"/>
              </a:rPr>
              <a:t>Primary driving force of Earth’s climate engin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Text Box 23"/>
          <p:cNvSpPr/>
          <p:nvPr/>
        </p:nvSpPr>
        <p:spPr>
          <a:xfrm>
            <a:off x="380880" y="3581280"/>
            <a:ext cx="419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2. Electromagnetic spectrum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Text Box 24"/>
          <p:cNvSpPr/>
          <p:nvPr/>
        </p:nvSpPr>
        <p:spPr>
          <a:xfrm>
            <a:off x="685800" y="4038480"/>
            <a:ext cx="4724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From </a:t>
            </a:r>
            <a:r>
              <a:rPr b="1" lang="en-US" sz="1800" spc="-1" strike="noStrike">
                <a:solidFill>
                  <a:srgbClr val="003366"/>
                </a:solidFill>
                <a:latin typeface="Tahoma"/>
              </a:rPr>
              <a:t>short wavelength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, high energy, gamma rays to </a:t>
            </a:r>
            <a:r>
              <a:rPr b="1" lang="en-US" sz="1800" spc="-1" strike="noStrike">
                <a:solidFill>
                  <a:srgbClr val="cc6600"/>
                </a:solidFill>
                <a:latin typeface="Tahoma"/>
              </a:rPr>
              <a:t>long wavelength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, low energy, radio wave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Text Box 28"/>
          <p:cNvSpPr/>
          <p:nvPr/>
        </p:nvSpPr>
        <p:spPr>
          <a:xfrm>
            <a:off x="685800" y="3138480"/>
            <a:ext cx="41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Releases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hea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when absorb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Text Box 30"/>
          <p:cNvSpPr/>
          <p:nvPr/>
        </p:nvSpPr>
        <p:spPr>
          <a:xfrm>
            <a:off x="685800" y="6172200"/>
            <a:ext cx="4038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2060"/>
                </a:solidFill>
                <a:latin typeface="Tahoma"/>
              </a:rPr>
              <a:t>Ultraviolet, Visible, Infrare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2"/>
          <p:cNvSpPr/>
          <p:nvPr/>
        </p:nvSpPr>
        <p:spPr>
          <a:xfrm>
            <a:off x="0" y="182520"/>
            <a:ext cx="9080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02080"/>
                </a:solidFill>
                <a:latin typeface="Times New Roman"/>
              </a:rPr>
              <a:t>Sun’s Electromagnetic Spectr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260280" y="5076720"/>
            <a:ext cx="8561520" cy="10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Solar radiation has peak intensities in the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shorter wavelengths</a:t>
            </a: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, dominant in the region we know as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visible</a:t>
            </a: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, thus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shortwave radi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6" name="Picture 4" descr="G:\clones\Meterology\custom lectures\jpegs\chapter 02\09.jpg"/>
          <p:cNvPicPr/>
          <p:nvPr/>
        </p:nvPicPr>
        <p:blipFill>
          <a:blip r:embed="rId1"/>
          <a:stretch/>
        </p:blipFill>
        <p:spPr>
          <a:xfrm>
            <a:off x="12600" y="903240"/>
            <a:ext cx="9080640" cy="4000680"/>
          </a:xfrm>
          <a:prstGeom prst="rect">
            <a:avLst/>
          </a:prstGeom>
          <a:ln w="0">
            <a:noFill/>
          </a:ln>
        </p:spPr>
      </p:pic>
      <p:sp>
        <p:nvSpPr>
          <p:cNvPr id="1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lackbody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Radiation Curves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19" name="Picture 3" descr="bbcurves"/>
          <p:cNvPicPr/>
          <p:nvPr/>
        </p:nvPicPr>
        <p:blipFill>
          <a:blip r:embed="rId1"/>
          <a:stretch/>
        </p:blipFill>
        <p:spPr>
          <a:xfrm>
            <a:off x="685800" y="895320"/>
            <a:ext cx="7924680" cy="594360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4"/>
          <p:cNvSpPr/>
          <p:nvPr/>
        </p:nvSpPr>
        <p:spPr>
          <a:xfrm>
            <a:off x="4343400" y="1447920"/>
            <a:ext cx="3809880" cy="1447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206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202060"/>
                </a:solidFill>
                <a:latin typeface="Tahoma"/>
              </a:rPr>
              <a:t>Any object above absolute zero radiates heat, </a:t>
            </a: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as proportional to </a:t>
            </a:r>
            <a:r>
              <a:rPr b="1" lang="en-US" sz="2400" spc="-1" strike="noStrike">
                <a:solidFill>
                  <a:srgbClr val="cc6600"/>
                </a:solidFill>
                <a:latin typeface="Times New Roman"/>
              </a:rPr>
              <a:t>T</a:t>
            </a:r>
            <a:r>
              <a:rPr b="1" lang="en-US" sz="2400" spc="-1" strike="noStrike" baseline="30000">
                <a:solidFill>
                  <a:srgbClr val="cc66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2895480" y="4572000"/>
            <a:ext cx="297180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Higher temperature, shorter waveleng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2"/>
          <p:cNvSpPr/>
          <p:nvPr/>
        </p:nvSpPr>
        <p:spPr>
          <a:xfrm>
            <a:off x="0" y="-127080"/>
            <a:ext cx="9080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02080"/>
                </a:solidFill>
                <a:latin typeface="Times New Roman"/>
              </a:rPr>
              <a:t>Longwave &amp; Shortwave Radi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4" name="Picture 3" descr="G:\clones\Meterology\custom lectures\jpegs\chapter 02\08.jpg"/>
          <p:cNvPicPr/>
          <p:nvPr/>
        </p:nvPicPr>
        <p:blipFill>
          <a:blip r:embed="rId1"/>
          <a:stretch/>
        </p:blipFill>
        <p:spPr>
          <a:xfrm>
            <a:off x="12600" y="682560"/>
            <a:ext cx="6756480" cy="525456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5"/>
          <p:cNvSpPr/>
          <p:nvPr/>
        </p:nvSpPr>
        <p:spPr>
          <a:xfrm>
            <a:off x="6794640" y="873000"/>
            <a:ext cx="2323800" cy="461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The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ot sun</a:t>
            </a: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 radiates at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horter</a:t>
            </a: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 wavelengths that carry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more energy</a:t>
            </a: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, and the fraction absorbed by the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cooler earth</a:t>
            </a: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 is then re-radiated at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longer </a:t>
            </a:r>
            <a:r>
              <a:rPr b="1" lang="en-US" sz="2400" spc="-1" strike="noStrike">
                <a:solidFill>
                  <a:srgbClr val="202060"/>
                </a:solidFill>
                <a:latin typeface="Times New Roman"/>
              </a:rPr>
              <a:t>wavelength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2"/>
          <p:cNvSpPr/>
          <p:nvPr/>
        </p:nvSpPr>
        <p:spPr>
          <a:xfrm>
            <a:off x="0" y="-127080"/>
            <a:ext cx="9080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02080"/>
                </a:solidFill>
                <a:latin typeface="Times New Roman"/>
              </a:rPr>
              <a:t>Atmospheric Greenhouse Effec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8" name="Picture 3" descr="G:\clones\Meterology\custom lectures\jpegs\chapter 02\12A.jpg"/>
          <p:cNvPicPr/>
          <p:nvPr/>
        </p:nvPicPr>
        <p:blipFill>
          <a:blip r:embed="rId1"/>
          <a:stretch/>
        </p:blipFill>
        <p:spPr>
          <a:xfrm>
            <a:off x="4603680" y="685800"/>
            <a:ext cx="4540320" cy="41292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4" descr="G:\clones\Meterology\custom lectures\jpegs\chapter 02\12B.jpg"/>
          <p:cNvPicPr/>
          <p:nvPr/>
        </p:nvPicPr>
        <p:blipFill>
          <a:blip r:embed="rId2"/>
          <a:stretch/>
        </p:blipFill>
        <p:spPr>
          <a:xfrm>
            <a:off x="31680" y="674640"/>
            <a:ext cx="4540320" cy="336384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7"/>
          <p:cNvSpPr/>
          <p:nvPr/>
        </p:nvSpPr>
        <p:spPr>
          <a:xfrm>
            <a:off x="1676520" y="3443400"/>
            <a:ext cx="213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= 15°C (59°F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Text Box 8"/>
          <p:cNvSpPr/>
          <p:nvPr/>
        </p:nvSpPr>
        <p:spPr>
          <a:xfrm>
            <a:off x="6095880" y="419112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= –18°C (0°F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Text Box 10"/>
          <p:cNvSpPr/>
          <p:nvPr/>
        </p:nvSpPr>
        <p:spPr>
          <a:xfrm>
            <a:off x="0" y="5410080"/>
            <a:ext cx="908064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Greenhouse effects make Earth’s surface warmer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Text Box 11"/>
          <p:cNvSpPr/>
          <p:nvPr/>
        </p:nvSpPr>
        <p:spPr>
          <a:xfrm>
            <a:off x="228600" y="3809880"/>
            <a:ext cx="41148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urface Temperature </a:t>
            </a: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With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the Atmosphe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Text Box 12"/>
          <p:cNvSpPr/>
          <p:nvPr/>
        </p:nvSpPr>
        <p:spPr>
          <a:xfrm>
            <a:off x="4800600" y="4648320"/>
            <a:ext cx="41148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urface Temperature </a:t>
            </a: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Withou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the Atmospher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GHeffect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0" y="0"/>
            <a:ext cx="9144000" cy="6769080"/>
          </a:xfrm>
          <a:prstGeom prst="rect">
            <a:avLst/>
          </a:prstGeom>
          <a:ln w="0">
            <a:noFill/>
          </a:ln>
        </p:spPr>
      </p:pic>
      <p:sp>
        <p:nvSpPr>
          <p:cNvPr id="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1T13:12:03Z</dcterms:created>
  <dc:creator>Zong-Liang Yang</dc:creator>
  <dc:description/>
  <dc:language>en-US</dc:language>
  <cp:lastModifiedBy>Legion</cp:lastModifiedBy>
  <dcterms:modified xsi:type="dcterms:W3CDTF">2017-01-26T10:04:30Z</dcterms:modified>
  <cp:revision>237</cp:revision>
  <dc:subject/>
  <dc:title>Elements of the Sun; Solar Radiation</dc:title>
</cp:coreProperties>
</file>